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F01-6CBF-4883-8EB0-2B1439F8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59E-F239-44B8-B5D5-3930FB2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002-B341-4E67-8925-FAA8B3DB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185-4BD4-45C2-B3B4-A341B692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B6C1-E993-4DC8-AA80-4573DE5B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5363-451D-42BC-AC98-BCE223B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5FC5-AB44-4AA9-94C4-2BA6CEFA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9B92-811E-4DB5-A45A-B95F7356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7F0E-0B8B-451E-8D65-A183EF43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04A0-C083-450D-AB40-6AB5994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816-068A-4FD8-ABDF-8D213EC1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8AB-9569-45A1-9EC5-6D284763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C9D5-0EBE-47E3-847F-740501A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936A-F8A1-43F2-B1FA-A7DE66F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6E39-0277-478F-AD0A-55C8151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623-6057-473D-A685-1C619351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2DD-6FCE-4F6D-A618-0DB2DDEB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509-1F8C-4F2A-B275-5DFD788A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83B-08DD-417F-84AB-7B04F7B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AD1-A699-4A84-98C4-B50D9DAF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281-B976-45F6-9E7A-B8645E0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6EE-3645-4F02-8AA2-C06F7F8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A7D-6DFC-420C-A993-DD29764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D0A-A41A-4309-B3FC-5754B28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CA51-EE52-4FAC-A54D-253017DED7C3}" type="slidenum">
              <a:rPr b="0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9C5-1A0C-4DDD-AE8D-E23802A32AAF}" type="slidenum">
              <a:rPr b="0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5998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200" spc="-1" strike="noStrike">
                <a:solidFill>
                  <a:srgbClr val="ff2121"/>
                </a:solidFill>
                <a:latin typeface="Tw Cen MT"/>
                <a:ea typeface="Tahom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666880" y="4495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83808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Interesting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oper Black"/>
              </a:rPr>
              <a:t>Podcast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Example 1 – Scrambled Egg Sam</a:t>
            </a:r>
            <a:endParaRPr b="0" lang="en-US" sz="4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n iTunes 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podcast was about a boy who had written a story based on a character in the popular video game Guitar Hero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was a very creative idea., but it would have benefited from stating suggestions for implementation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eachers can gain ideas from this video to further engage their student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w Cen MT"/>
              </a:rPr>
              <a:t>Example 2 – What’s on Your Macbook? Garageband</a:t>
            </a:r>
            <a:endParaRPr b="0" lang="en-US" sz="3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n iTunes 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podcast explained the uses of the Garageband softwar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reative ideas were mentioned here, but there were no visuals, and the ideas were not expanded upon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32640" indent="0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would play this podcast for middle school students to give them ideas on what can be don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w Cen MT"/>
              </a:rPr>
              <a:t>Example 3 – Brown Bear (French Alphabet)</a:t>
            </a:r>
            <a:endParaRPr b="0" lang="en-US" sz="3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n iTunes 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algn="ct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s podcast was of a woman teaching the French alphabet to student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 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woman pointed out the similarities between some English letters and some French letters. I feel that the podcast would have been more interesting with graphic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I would play this video for middle/high school students who are just learning French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1:56:54Z</dcterms:created>
  <dc:creator>PGCPS</dc:creator>
  <dc:description/>
  <dc:language>en-US</dc:language>
  <cp:lastModifiedBy>PGCPS</cp:lastModifiedBy>
  <dcterms:modified xsi:type="dcterms:W3CDTF">2009-11-03T22:09:20Z</dcterms:modified>
  <cp:revision>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6611033</vt:lpwstr>
  </property>
</Properties>
</file>